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33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5.gif" ContentType="image/gif"/>
  <Override PartName="/ppt/media/image43.jpeg" ContentType="image/jpeg"/>
  <Override PartName="/ppt/media/image38.jpeg" ContentType="image/jpeg"/>
  <Override PartName="/ppt/media/image97.jpeg" ContentType="image/jpeg"/>
  <Override PartName="/ppt/media/image126.wmf" ContentType="image/x-wmf"/>
  <Override PartName="/ppt/media/image34.jpeg" ContentType="image/jpeg"/>
  <Override PartName="/ppt/media/image56.jpeg" ContentType="image/jpeg"/>
  <Override PartName="/ppt/media/image32.jpeg" ContentType="image/jpeg"/>
  <Override PartName="/ppt/media/image30.jpeg" ContentType="image/jpeg"/>
  <Override PartName="/ppt/media/image6.wmf" ContentType="image/x-wmf"/>
  <Override PartName="/ppt/media/image12.jpeg" ContentType="image/jpeg"/>
  <Override PartName="/ppt/media/image88.jpeg" ContentType="image/jpeg"/>
  <Override PartName="/ppt/media/image108.jpeg" ContentType="image/jpeg"/>
  <Override PartName="/ppt/media/image53.jpeg" ContentType="image/jpeg"/>
  <Override PartName="/ppt/media/image10.gif" ContentType="image/gif"/>
  <Override PartName="/ppt/media/image52.jpeg" ContentType="image/jpeg"/>
  <Override PartName="/ppt/media/image31.gif" ContentType="image/gif"/>
  <Override PartName="/ppt/media/image74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23.gif" ContentType="image/gif"/>
  <Override PartName="/ppt/media/image7.gif" ContentType="image/gif"/>
  <Override PartName="/ppt/media/image5.jpeg" ContentType="image/jpeg"/>
  <Override PartName="/ppt/media/image26.jpeg" ContentType="image/jpeg"/>
  <Override PartName="/ppt/media/image105.jpeg" ContentType="image/jpeg"/>
  <Override PartName="/ppt/media/image47.jpeg" ContentType="image/jpeg"/>
  <Override PartName="/ppt/media/image25.wmf" ContentType="image/x-wmf"/>
  <Override PartName="/ppt/media/image19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27.gif" ContentType="image/gif"/>
  <Override PartName="/ppt/media/image83.jpeg" ContentType="image/jpeg"/>
  <Override PartName="/ppt/media/image103.jpeg" ContentType="image/jpeg"/>
  <Override PartName="/ppt/media/image36.jpeg" ContentType="image/jpeg"/>
  <Override PartName="/ppt/media/image2.jpeg" ContentType="image/jpeg"/>
  <Override PartName="/ppt/media/image4.wmf" ContentType="image/x-wmf"/>
  <Override PartName="/ppt/media/image66.jpeg" ContentType="image/jpeg"/>
  <Override PartName="/ppt/media/image1.jpeg" ContentType="image/jpeg"/>
  <Override PartName="/ppt/media/image89.jpeg" ContentType="image/jpeg"/>
  <Override PartName="/ppt/media/image22.jpeg" ContentType="image/jpeg"/>
  <Override PartName="/ppt/media/image81.jpeg" ContentType="image/jpeg"/>
  <Override PartName="/ppt/media/image101.jpeg" ContentType="image/jpeg"/>
  <Override PartName="/ppt/media/image118.jpeg" ContentType="image/jpeg"/>
  <Override PartName="/ppt/media/image41.jpeg" ContentType="image/jpeg"/>
  <Override PartName="/ppt/media/image120.jpeg" ContentType="image/jpeg"/>
  <Override PartName="/ppt/media/image72.jpeg" ContentType="image/jpeg"/>
  <Override PartName="/ppt/media/image73.jpeg" ContentType="image/jpeg"/>
  <Override PartName="/ppt/media/image84.jpeg" ContentType="image/jpeg"/>
  <Override PartName="/ppt/media/image104.jpeg" ContentType="image/jpeg"/>
  <Override PartName="/ppt/media/image93.jpeg" ContentType="image/jpeg"/>
  <Override PartName="/ppt/media/image94.jpeg" ContentType="image/jpeg"/>
  <Override PartName="/ppt/media/image95.jpeg" ContentType="image/jpeg"/>
  <Override PartName="/ppt/media/image51.jpeg" ContentType="image/jpeg"/>
  <Override PartName="/ppt/media/image76.jpeg" ContentType="image/jpeg"/>
  <Override PartName="/ppt/media/image125.jpeg" ContentType="image/jpeg"/>
  <Override PartName="/ppt/media/image75.jpeg" ContentType="image/jpeg"/>
  <Override PartName="/ppt/media/image124.jpeg" ContentType="image/jpeg"/>
  <Override PartName="/ppt/media/image123.jpeg" ContentType="image/jpeg"/>
  <Override PartName="/ppt/media/image122.jpeg" ContentType="image/jpeg"/>
  <Override PartName="/ppt/media/image121.jpeg" ContentType="image/jpeg"/>
  <Override PartName="/ppt/media/image115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96.jpeg" ContentType="image/jpeg"/>
  <Override PartName="/ppt/media/image113.jpeg" ContentType="image/jpeg"/>
  <Override PartName="/ppt/media/image114.jpeg" ContentType="image/jpeg"/>
  <Override PartName="/ppt/media/image119.jpeg" ContentType="image/jpeg"/>
  <Override PartName="/ppt/media/image82.jpeg" ContentType="image/jpeg"/>
  <Override PartName="/ppt/media/image102.jpeg" ContentType="image/jpeg"/>
  <Override PartName="/ppt/media/image111.jpeg" ContentType="image/jpeg"/>
  <Override PartName="/ppt/media/image91.jpeg" ContentType="image/jpeg"/>
  <Override PartName="/ppt/media/image64.jpeg" ContentType="image/jpeg"/>
  <Override PartName="/ppt/media/image110.jpeg" ContentType="image/jpeg"/>
  <Override PartName="/ppt/media/image90.jpeg" ContentType="image/jpeg"/>
  <Override PartName="/ppt/media/image29.png" ContentType="image/png"/>
  <Override PartName="/ppt/media/image63.jpeg" ContentType="image/jpeg"/>
  <Override PartName="/ppt/media/image106.jpeg" ContentType="image/jpeg"/>
  <Override PartName="/ppt/media/image15.jpeg" ContentType="image/jpeg"/>
  <Override PartName="/ppt/media/image99.jpeg" ContentType="image/jpeg"/>
  <Override PartName="/ppt/media/image20.jpeg" ContentType="image/jpeg"/>
  <Override PartName="/ppt/media/image116.jpeg" ContentType="image/jpeg"/>
  <Override PartName="/ppt/media/image71.jpeg" ContentType="image/jpeg"/>
  <Override PartName="/ppt/media/image70.jpeg" ContentType="image/jpeg"/>
  <Override PartName="/ppt/media/image86.gif" ContentType="image/gif"/>
  <Override PartName="/ppt/media/image69.jpeg" ContentType="image/jpeg"/>
  <Override PartName="/ppt/media/image49.jpeg" ContentType="image/jpeg"/>
  <Override PartName="/ppt/media/image85.gif" ContentType="image/gif"/>
  <Override PartName="/ppt/media/image68.jpeg" ContentType="image/jpeg"/>
  <Override PartName="/ppt/media/image67.jpeg" ContentType="image/jpeg"/>
  <Override PartName="/ppt/media/image79.jpeg" ContentType="image/jpeg"/>
  <Override PartName="/ppt/media/image62.jpeg" ContentType="image/jpeg"/>
  <Override PartName="/ppt/media/image78.jpeg" ContentType="image/jpeg"/>
  <Override PartName="/ppt/media/image61.jpeg" ContentType="image/jpeg"/>
  <Override PartName="/ppt/media/image60.jpeg" ContentType="image/jpeg"/>
  <Override PartName="/ppt/media/image77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1AA6-631D-4CF3-B8D4-FBC9E1292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D724-7C99-4BBE-8AB5-50018BF3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E96-8C98-422B-B862-7F971145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2F8-D093-4696-AFF5-642BBE0C8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1278-C61E-49A9-AC2E-2D40367B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E86-FA54-4FF7-8579-9D5353DA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505-49E1-4550-B9A4-F2FF658F8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0C6F-A105-46C1-8277-9C829C1A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136-8A47-4BD6-800D-0E0363F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D63-DEA7-4817-BAFD-454AC0C2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8306-44C0-411A-9993-1127AB6A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DC05-74A4-4CF7-9C62-DCFD172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2944-7B6D-43A4-9D14-01DFE7AE3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57.jpeg"/><Relationship Id="rId6" Type="http://schemas.openxmlformats.org/officeDocument/2006/relationships/slideLayout" Target="../slideLayouts/slideLayout1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image" Target="../media/image62.jpeg"/><Relationship Id="rId6" Type="http://schemas.openxmlformats.org/officeDocument/2006/relationships/slideLayout" Target="../slideLayouts/slideLayout1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7.jpeg"/><Relationship Id="rId6" Type="http://schemas.openxmlformats.org/officeDocument/2006/relationships/image" Target="../media/image68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slideLayout" Target="../slideLayouts/slideLayout8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5.gif"/><Relationship Id="rId2" Type="http://schemas.openxmlformats.org/officeDocument/2006/relationships/image" Target="../media/image86.gi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0.jpeg"/><Relationship Id="rId2" Type="http://schemas.openxmlformats.org/officeDocument/2006/relationships/image" Target="../media/image91.jpeg"/><Relationship Id="rId3" Type="http://schemas.openxmlformats.org/officeDocument/2006/relationships/image" Target="../media/image92.jpeg"/><Relationship Id="rId4" Type="http://schemas.openxmlformats.org/officeDocument/2006/relationships/image" Target="../media/image93.jpeg"/><Relationship Id="rId5" Type="http://schemas.openxmlformats.org/officeDocument/2006/relationships/image" Target="../media/image94.jpeg"/><Relationship Id="rId6" Type="http://schemas.openxmlformats.org/officeDocument/2006/relationships/image" Target="../media/image95.jpeg"/><Relationship Id="rId7" Type="http://schemas.openxmlformats.org/officeDocument/2006/relationships/image" Target="../media/image96.jpeg"/><Relationship Id="rId8" Type="http://schemas.openxmlformats.org/officeDocument/2006/relationships/image" Target="../media/image97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image" Target="../media/image104.jpeg"/><Relationship Id="rId4" Type="http://schemas.openxmlformats.org/officeDocument/2006/relationships/image" Target="../media/image105.jpeg"/><Relationship Id="rId5" Type="http://schemas.openxmlformats.org/officeDocument/2006/relationships/image" Target="../media/image106.jpeg"/><Relationship Id="rId6" Type="http://schemas.openxmlformats.org/officeDocument/2006/relationships/image" Target="../media/image107.jpeg"/><Relationship Id="rId7" Type="http://schemas.openxmlformats.org/officeDocument/2006/relationships/image" Target="../media/image108.jpeg"/><Relationship Id="rId8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image" Target="../media/image111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12.jpeg"/><Relationship Id="rId2" Type="http://schemas.openxmlformats.org/officeDocument/2006/relationships/image" Target="../media/image113.jpeg"/><Relationship Id="rId3" Type="http://schemas.openxmlformats.org/officeDocument/2006/relationships/image" Target="../media/image114.jpeg"/><Relationship Id="rId4" Type="http://schemas.openxmlformats.org/officeDocument/2006/relationships/image" Target="../media/image115.jpeg"/><Relationship Id="rId5" Type="http://schemas.openxmlformats.org/officeDocument/2006/relationships/image" Target="../media/image116.jpeg"/><Relationship Id="rId6" Type="http://schemas.openxmlformats.org/officeDocument/2006/relationships/image" Target="../media/image117.jpeg"/><Relationship Id="rId7" Type="http://schemas.openxmlformats.org/officeDocument/2006/relationships/image" Target="../media/image118.jpeg"/><Relationship Id="rId8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9.jpeg"/><Relationship Id="rId2" Type="http://schemas.openxmlformats.org/officeDocument/2006/relationships/image" Target="../media/image12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1.jpeg"/><Relationship Id="rId2" Type="http://schemas.openxmlformats.org/officeDocument/2006/relationships/image" Target="../media/image122.jpe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23.jpeg"/><Relationship Id="rId2" Type="http://schemas.openxmlformats.org/officeDocument/2006/relationships/image" Target="../media/image124.jpeg"/><Relationship Id="rId3" Type="http://schemas.openxmlformats.org/officeDocument/2006/relationships/image" Target="../media/image125.jpeg"/><Relationship Id="rId4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2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5F4B-29CF-46D4-AF83-58963141F053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1958760" cy="280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804000" y="692280"/>
            <a:ext cx="1906560" cy="2736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364000" y="3716280"/>
            <a:ext cx="1901880" cy="2735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2195640" y="3716280"/>
            <a:ext cx="1906560" cy="2737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780000" y="692280"/>
            <a:ext cx="1931760" cy="273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9E7-6B98-4E52-9ACF-46E308E6EAE3}" type="slidenum">
              <a:t>10</a:t>
            </a:fld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За подготовку команд победителей и призёров городских и республиканских соревнован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95280" y="2133720"/>
            <a:ext cx="2071800" cy="2879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2176200" cy="3024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619280" y="2924280"/>
            <a:ext cx="2193840" cy="3095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2268360" y="3357720"/>
            <a:ext cx="2152800" cy="3024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2987640" y="3789360"/>
            <a:ext cx="2044800" cy="290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5508720" y="2349360"/>
            <a:ext cx="207648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6659640" y="3429000"/>
            <a:ext cx="1893960" cy="287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DE3F-5539-494C-9A77-F22371E21FD1}" type="slidenum">
              <a:t>1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2276640"/>
            <a:ext cx="820908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выш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валификаци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1871640" cy="177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37CE-A55E-4810-A803-D5A2B10783A5}" type="slidenum">
              <a:t>12</a:t>
            </a:fld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1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Новые подходы к содержанию и организации внеурочных форм физкультурно-оздоровительной и спортивной работ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Справка № 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 – 13 марта 2004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0CC8-87F9-4760-9F14-2DEDBFC5D86D}" type="slidenum">
              <a:t>13</a:t>
            </a:fld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8281800" cy="3892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708360" y="404640"/>
            <a:ext cx="1800360" cy="174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235E-6361-4C29-A092-40143D3EEC8F}" type="slidenum">
              <a:t>14</a:t>
            </a:fld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ребования охраны труда по программе обучения учителей физической культур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6 час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8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 – 24 марта 2005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06FB-1A40-44DA-B54C-F598AFEC6D00}" type="slidenum">
              <a:t>15</a:t>
            </a:fld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344000" cy="51609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380360" y="5157720"/>
            <a:ext cx="143964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967-B5DD-479B-BCF3-0F28661B73A1}" type="slidenum">
              <a:t>16</a:t>
            </a:fld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3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Технологические аспекты повышения профессионального мастерства учителей физической культуры по оздоровлению учащихся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315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3 января – 4 феврал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B0D3-7CD6-4A36-8889-DD3DE5FD803B}" type="slidenum">
              <a:t>17</a:t>
            </a:fld>
          </a:p>
        </p:txBody>
      </p:sp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692520" cy="52563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4081320"/>
            <a:ext cx="1512720" cy="1408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003640" y="981000"/>
            <a:ext cx="3610080" cy="5183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94B0-E73E-4F47-8131-08CCE8F567B8}" type="slidenum">
              <a:t>18</a:t>
            </a:fld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68360" y="907920"/>
            <a:ext cx="799128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учно-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тод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800000" cy="165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FAA7-1286-4325-BC62-F5BAB0C4A7AF}" type="slidenum">
              <a:t>19</a:t>
            </a:fld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9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7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187280" y="620640"/>
            <a:ext cx="6840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Шерстнёв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ей 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алерьевич</a:t>
            </a:r>
            <a:endParaRPr b="1" lang="en-US" sz="40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581360"/>
            <a:ext cx="60487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B417-2A03-4BC1-B8A5-0EE24C7E9345}" type="slidenum">
              <a:t>2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10de"/>
                </a:solidFill>
                <a:latin typeface="Times New Roman"/>
              </a:rPr>
              <a:t>Тема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33303"/>
                </a:solidFill>
                <a:latin typeface="Times New Roman"/>
              </a:rPr>
              <a:t>«Работа с одарёнными детьми в условиях общеобразовательной шко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подготовка победителей и призёров соревнований и олимпи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1. Выявление одарённых детей, диагностика талантов, прогнозирование результато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2. Создание условий для совместной деятельности наставника и ребёнк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3. Целенаправленная работа по раскрытию внутреннего потенциала личност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33303"/>
                </a:solidFill>
                <a:latin typeface="Times New Roman"/>
              </a:rPr>
              <a:t>Этапы работ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. Убеждение детей и их родителей в необходимости раскрытия потенциа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. Постоянный контакт с классными руководителями и администрацией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3. Применение индивидуальных заданий на урока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4. Дополнительные занятия в спортивных секци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5. Привлечение к работе высококвалифицированных специалис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6. Организация соревновательной практики и теоретических занят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7. Своевременное применение восстановительных средст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8. Организация совместного досуга с учащимис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885080" y="5130720"/>
            <a:ext cx="942840" cy="153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E9D-E4AA-4E9E-ADFD-A4DC4A0E2B09}" type="slidenum">
              <a:t>20</a:t>
            </a:fld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9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9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9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9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11280" y="907920"/>
            <a:ext cx="79214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349-0341-4AEA-9D12-82E1F5CEC1C8}" type="slidenum">
              <a:t>21</a:t>
            </a:fld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06728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педсовете шк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воспитанию с одарёнными детьми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0.11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На заседании МО учителей физкультуры г.Йошкар-Олы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собенности организации и провед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лючительного этапа Всероссийской Олимпиады школьников по предмету «Физическая культура» в 2006 (г. Кисловодск) и 2007 (г. Ульяновск) года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1f10de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24.08.2007 г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«Организация работы по физическому  воспитанию с одарёнными детьми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33303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e6"/>
                </a:solidFill>
                <a:latin typeface="Times New Roman"/>
              </a:rPr>
              <a:t>15.12.2007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3527280" cy="439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BCC-A563-45C4-8760-8E3B9CEDCA45}" type="slidenum">
              <a:t>22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24000" y="549360"/>
            <a:ext cx="835164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онкурс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фессиональн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стер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804000" y="26028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5B3F-B298-4261-B8B5-05372E98B4CC}" type="slidenum">
              <a:t>23</a:t>
            </a:fld>
          </a:p>
        </p:txBody>
      </p:sp>
    </p:spTree>
  </p:cSld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Действующий спортсме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военно-спортивным многоборья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йствующий Мастер спорта России по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олжаю активно участвовать в соревнованиях по лёгкой атлетике, плаванию, лыжным гонкам, стрельбе, военному пятиборью, офицерскому троеборью, полиатлон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о становился победителем и призёром Чемпионатов РМЭ, России, Приволжско-Уральского военного округа и Вооружённых Сил Р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42F-ED04-4015-908F-019A74927414}" type="slidenum">
              <a:t>24</a:t>
            </a:fld>
          </a:p>
        </p:txBody>
      </p:sp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11280" y="3789360"/>
            <a:ext cx="3622680" cy="2509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3600360" cy="24894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932360" y="620640"/>
            <a:ext cx="3600360" cy="244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7200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4FAD-337F-441C-97F7-D50C1175839C}" type="slidenum">
              <a:t>25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2349360"/>
            <a:ext cx="2205000" cy="3384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4896000" cy="3301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84820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333360"/>
            <a:ext cx="85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Серебряный призёр молодёжног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e6"/>
                </a:solidFill>
                <a:latin typeface="Times New Roman"/>
              </a:rPr>
              <a:t>Чемпионата Европы по военному пятибор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79640" y="1557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33303"/>
                </a:solidFill>
                <a:latin typeface="Times New Roman"/>
              </a:rPr>
              <a:t>Бельгия, г. Дист, 2000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94560" y="5734080"/>
            <a:ext cx="875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10de"/>
                </a:solidFill>
                <a:latin typeface="Times New Roman"/>
              </a:rPr>
              <a:t>От тренировок</a:t>
            </a: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   –    </a:t>
            </a:r>
            <a:r>
              <a:rPr b="1" lang="en-US" sz="4000" spc="-1" strike="noStrike">
                <a:solidFill>
                  <a:srgbClr val="e33303"/>
                </a:solidFill>
                <a:latin typeface="Times New Roman"/>
              </a:rPr>
              <a:t>К   ПОБЕДЕ</a:t>
            </a:r>
            <a:r>
              <a:rPr b="1" lang="en-US" sz="4800" spc="-1" strike="noStrike">
                <a:solidFill>
                  <a:srgbClr val="e33303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BEA-792E-4A55-A763-2C1FFA692D12}" type="slidenum">
              <a:t>26</a:t>
            </a:fld>
          </a:p>
        </p:txBody>
      </p:sp>
    </p:spTree>
  </p:cSld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447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867280" y="620640"/>
            <a:ext cx="2855880" cy="4176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1619280" y="1700280"/>
            <a:ext cx="2441520" cy="3454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3132000" y="3068640"/>
            <a:ext cx="25196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B842-D234-4618-AEBE-835C66C8D473}" type="slidenum">
              <a:t>27</a:t>
            </a:fld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46800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редставитель сборной команды РМЭ на Российских олимпиадах школьников по предмету «Физическая культура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3456000" cy="3452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6231-3EF8-4C14-9CB9-92F27BC95B34}" type="slidenum">
              <a:t>28</a:t>
            </a:fld>
          </a:p>
        </p:txBody>
      </p:sp>
    </p:spTree>
  </p:cSld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79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3884400" cy="58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20-26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1f10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f10de"/>
                </a:solidFill>
                <a:latin typeface="Times New Roman"/>
              </a:rPr>
              <a:t>г. Кисловод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16360" y="260280"/>
            <a:ext cx="3888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2007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14-19 апрел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33303"/>
                </a:solidFill>
                <a:latin typeface="Times New Roman"/>
              </a:rPr>
              <a:t>г. Ульяновс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2876760" cy="3745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64000" y="2565360"/>
            <a:ext cx="284184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C00D-1681-42E5-8F1A-36853CA9AD71}" type="slidenum">
              <a:t>29</a:t>
            </a:fld>
          </a:p>
        </p:txBody>
      </p:sp>
    </p:spTree>
  </p:cSld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</a:rPr>
              <a:t>Шерстнёв Алексей Валерь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43210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Факультет физической культуры, 1997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-  «Физическая культура и спорт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, 2003 го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10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932360" y="1341360"/>
            <a:ext cx="3672000" cy="489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8701-16BD-46B9-88F4-BB0E4110893E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3744720" cy="280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859280" y="371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476280"/>
            <a:ext cx="3600360" cy="273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932360" y="476280"/>
            <a:ext cx="3673440" cy="268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B2F9-2E41-4D60-9C12-5F8AC9E515BC}" type="slidenum">
              <a:t>30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3156120" cy="2367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19640" y="1359000"/>
            <a:ext cx="3157560" cy="236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9528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732720" y="4005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2843280" y="3933720"/>
            <a:ext cx="3527280" cy="26481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03280" y="13413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«Медовые водопады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506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Гора «Кольцо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6560" y="3933720"/>
            <a:ext cx="177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Замок Коварст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и Любв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3933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Санатор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33303"/>
                </a:solidFill>
                <a:latin typeface="Times New Roman"/>
              </a:rPr>
              <a:t>«Москв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38815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6165720"/>
            <a:ext cx="36720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Бронзовый призёр Олимпиады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CF55-E7D3-4808-AFB5-0D2169BF666B}" type="slidenum">
              <a:t>31</a:t>
            </a:fld>
          </a:p>
        </p:txBody>
      </p:sp>
    </p:spTree>
  </p:cSld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3384720" cy="2249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456000" cy="24336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219640" y="386064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2203200" cy="3097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796000" y="55166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ушутина Оль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597060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Бронзовый призёр Олимпиа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6021360"/>
            <a:ext cx="216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Бронзовый призёр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Олимпиа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35211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Шубин Паве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19280" y="121752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Общее фо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11444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700360" y="5013360"/>
            <a:ext cx="2376360" cy="15811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692440" y="3422520"/>
            <a:ext cx="238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Слёз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ПОБЕДЫ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9228-D572-4795-98A4-ECA34713474C}" type="slidenum">
              <a:t>32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1944720" cy="2592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3007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25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6516720" y="404640"/>
            <a:ext cx="1944720" cy="259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3348000" y="333360"/>
            <a:ext cx="2486160" cy="33130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132000" y="4221000"/>
            <a:ext cx="2951280" cy="22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BC9F-10A3-4488-97FD-8BD4D96FB657}" type="slidenum">
              <a:t>33</a:t>
            </a:fld>
          </a:p>
        </p:txBody>
      </p:sp>
    </p:spTree>
  </p:cSld>
  <p:timing>
    <p:tnLst>
      <p:par>
        <p:cTn id="1125" dur="indefinite" restart="never" nodeType="tmRoot">
          <p:childTnLst>
            <p:seq>
              <p:cTn id="1126" dur="indefinite" nodeType="mainSeq">
                <p:childTnLst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771640" y="386064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3097440" cy="2325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240360" cy="2305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Times New Roman"/>
              </a:rPr>
              <a:t>Награжде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2A8-EE05-43A2-A105-1D114BD8B58D}" type="slidenum">
              <a:t>34</a:t>
            </a:fld>
          </a:p>
        </p:txBody>
      </p:sp>
    </p:spTree>
  </p:cSld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5361120" cy="4021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27640" y="333360"/>
            <a:ext cx="2559240" cy="3411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826920" y="404640"/>
            <a:ext cx="43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Талисман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Times New Roman"/>
              </a:rPr>
              <a:t>олимпиад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3AE7-A58D-4C93-8B39-C60E7EB1D2F0}" type="slidenum">
              <a:t>35</a:t>
            </a:fld>
          </a:p>
        </p:txBody>
      </p:sp>
    </p:spTree>
  </p:cSld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4360" y="549360"/>
            <a:ext cx="777528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крыты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рок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ероприят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39640" y="3284640"/>
            <a:ext cx="2087640" cy="1565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516720" y="3284640"/>
            <a:ext cx="208764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5065-97E5-45FA-AEC6-A6E6EBC70DC5}" type="slidenum">
              <a:t>36</a:t>
            </a:fld>
          </a:p>
        </p:txBody>
      </p:sp>
    </p:spTree>
  </p:cSld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36720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Спортивный праздни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«Папа, мама, я – спортивная семья!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7 февраля 2007 го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330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Учащиеся 5-6 классов и их родит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995640" y="2276640"/>
            <a:ext cx="4680000" cy="3122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926D-B41E-485C-BAB6-943DB18CB428}" type="slidenum">
              <a:t>37</a:t>
            </a:fld>
          </a:p>
        </p:txBody>
      </p:sp>
    </p:spTree>
  </p:cSld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8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2" dur="1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1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4076640"/>
            <a:ext cx="3671640" cy="24354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76720" y="4076640"/>
            <a:ext cx="3600720" cy="2394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2700360" y="1341360"/>
            <a:ext cx="3600360" cy="239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D755-8371-45AA-9133-0E7B6781C878}" type="slidenum">
              <a:t>38</a:t>
            </a:fld>
          </a:p>
        </p:txBody>
      </p:sp>
    </p:spTree>
  </p:cSld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Республиканский турнир по баскетболу среди школьников, посвящённый Дню Защитника Отечест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24 февраля 2007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Спорткомплекс «Юбилейный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юношей городов и районов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7030-E428-42B5-85C5-3725705C9E19}" type="slidenum">
              <a:t>39</a:t>
            </a:fld>
          </a:p>
        </p:txBody>
      </p:sp>
    </p:spTree>
  </p:cSld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1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10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10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10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51847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олжностные обязанност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Учитель физической культуры МОУ «Средняя общеобразовательная школа № 9 г. Йошкар-Олы» (3 – 11 классы) - 10 ле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портивные секции: баскетбол (юноши), баскетбол (девуш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Кружок «Олимпийское время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Тренер-преподаватель ГОУ ДОД РМЭ СДЮШОР (отделение баскетбол) – 5 л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С 1 сентября 2007 года - председатель МО учителей физкультуры г. Йошкар-О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940360" y="260280"/>
            <a:ext cx="273708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84E-A522-4785-8F30-E2711325436A}" type="slidenum">
              <a:t>4</a:t>
            </a:fld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Главный судья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413160" cy="48974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157560" cy="2368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168720" cy="236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876-234A-4F05-9C92-C09FAFC723BF}" type="slidenum">
              <a:t>40</a:t>
            </a:fld>
          </a:p>
        </p:txBody>
      </p:sp>
    </p:spTree>
  </p:cSld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10de"/>
                </a:solidFill>
                <a:latin typeface="Times New Roman"/>
              </a:rPr>
              <a:t>Открытое мероприят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Первенство г. Йошкар-Олы среди школьников по легкоатлетическому кроссу в зачёт спартакиад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ентябрь 2007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Сомбатхей - «Осиновая рощ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3303"/>
                </a:solidFill>
                <a:latin typeface="Times New Roman"/>
              </a:rPr>
              <a:t>Участники - сборные команды школ г. Йошкар-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BAC3-A392-4F34-95C8-D2C8CAA56660}" type="slidenum">
              <a:t>41</a:t>
            </a:fld>
          </a:p>
        </p:txBody>
      </p:sp>
    </p:spTree>
  </p:cSld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3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7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5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C92-D119-41B7-BF94-B43BDFCFB846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24000" y="549360"/>
            <a:ext cx="7488000" cy="568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казател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езультат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ятельност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7524720" y="1628640"/>
            <a:ext cx="1290600" cy="19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81C-A0C0-496F-806B-CFD1480C7CAB}" type="slidenum">
              <a:t>43</a:t>
            </a:fld>
          </a:p>
        </p:txBody>
      </p:sp>
    </p:spTree>
  </p:cSld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5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734544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10de"/>
                </a:solidFill>
                <a:latin typeface="Times New Roman"/>
              </a:rPr>
              <a:t>Успеваемость учащих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740720" y="260280"/>
            <a:ext cx="1063440" cy="158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611280" y="2060640"/>
          <a:ext cx="7846920" cy="4514760"/>
        </p:xfrm>
        <a:graphic>
          <a:graphicData uri="http://schemas.openxmlformats.org/drawingml/2006/table">
            <a:tbl>
              <a:tblPr/>
              <a:tblGrid>
                <a:gridCol w="1962000"/>
                <a:gridCol w="1962360"/>
                <a:gridCol w="1960560"/>
                <a:gridCol w="196200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чебн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 обуч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качества знаний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еваемость учащихс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4-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5-20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8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2006-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4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9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I </a:t>
                      </a:r>
                      <a:r>
                        <a:rPr b="1" lang="ru-RU" sz="2000" spc="-1" strike="noStrike">
                          <a:solidFill>
                            <a:srgbClr val="1f10de"/>
                          </a:solidFill>
                          <a:latin typeface="Times New Roman"/>
                        </a:rPr>
                        <a:t>полугодие 2007-20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e33303"/>
                          </a:solidFill>
                          <a:latin typeface="Times New Roman"/>
                        </a:rPr>
                        <a:t>100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EA6-850B-4221-B7CD-31A32BA2865E}" type="slidenum">
              <a:t>44</a:t>
            </a:fld>
          </a:p>
        </p:txBody>
      </p:sp>
    </p:spTree>
  </p:cSld>
  <p:timing>
    <p:tnLst>
      <p:par>
        <p:cTn id="1376" dur="indefinite" restart="never" nodeType="tmRoot">
          <p:childTnLst>
            <p:seq>
              <p:cTn id="1377" dur="indefinite" nodeType="mainSeq">
                <p:childTnLst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0FA6-C7B7-4405-830D-467EDEA31C7D}" type="slidenum">
              <a:t>45</a:t>
            </a:fld>
          </a:p>
        </p:txBody>
      </p:sp>
    </p:spTree>
  </p:cSld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f10de"/>
                </a:solidFill>
                <a:latin typeface="Times New Roman"/>
              </a:rPr>
              <a:t>Школа – постоянный участник Всероссийского кросса нац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55164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14E-0A71-4B67-8ECC-42704885805D}" type="slidenum">
              <a:t>46</a:t>
            </a:fld>
          </a:p>
        </p:txBody>
      </p:sp>
    </p:spTree>
  </p:cSld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918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ородская спартакиада школьников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Школа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2000 по 2005 годы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однократный  победитель и призёр в легкоатлетическом кроссе, эстафете по улицам города, в легкоатлетическом троеборье, лыжных гонках, баскетболе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аскетбольная команда юношей трижды становилась победителем Первенства РМЭ (2004-2006 г.г.), а в 2007 г. стала Чемпионом РМЭ среди школьник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410-28FD-4FA0-A3AE-4A94199A02CD}" type="slidenum">
              <a:t>47</a:t>
            </a:fld>
          </a:p>
        </p:txBody>
      </p:sp>
    </p:spTree>
  </p:cSld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4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5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10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10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Баскетбол</a:t>
            </a: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 - первенство </a:t>
            </a:r>
            <a:br>
              <a:rPr sz="4000"/>
            </a:br>
            <a:r>
              <a:rPr b="1" lang="en-US" sz="4000" spc="-1" strike="noStrike">
                <a:solidFill>
                  <a:srgbClr val="0000e6"/>
                </a:solidFill>
                <a:latin typeface="Times New Roman"/>
              </a:rPr>
              <a:t>г. Йошкар-Олы среди 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Девуш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4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7960" y="1700280"/>
            <a:ext cx="38098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Юнош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5 год – 3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6 год – 2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2007 год – 1 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95280" y="3789360"/>
            <a:ext cx="3887640" cy="2527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859280" y="3789360"/>
            <a:ext cx="3672000" cy="253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4FE-912D-4BF8-9D41-0A943CFF70D9}" type="slidenum">
              <a:t>48</a:t>
            </a:fld>
          </a:p>
        </p:txBody>
      </p:sp>
    </p:spTree>
  </p:cSld>
  <p:timing>
    <p:tnLst>
      <p:par>
        <p:cTn id="1445" dur="indefinite" restart="never" nodeType="tmRoot">
          <p:childTnLst>
            <p:seq>
              <p:cTn id="1446" dur="indefinite" nodeType="mainSeq">
                <p:childTnLst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130120" cy="29527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116000" y="1413000"/>
            <a:ext cx="2103480" cy="2923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1908000" y="2492280"/>
            <a:ext cx="2057400" cy="29242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2843280" y="3573360"/>
            <a:ext cx="2012760" cy="2880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4140360" y="476280"/>
            <a:ext cx="2000160" cy="2881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4932360" y="1557360"/>
            <a:ext cx="1965240" cy="28796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5940360" y="2637000"/>
            <a:ext cx="1992240" cy="28796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6804000" y="3645000"/>
            <a:ext cx="1995480" cy="28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D18-A0E0-43FF-AFE2-D3EEE4F7D254}" type="slidenum">
              <a:t>49</a:t>
            </a:fld>
          </a:p>
        </p:txBody>
      </p:sp>
    </p:spTree>
  </p:cSld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0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8" dur="1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9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4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7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5" dur="1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6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4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5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3" dur="1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4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236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913440" cy="4608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93080" y="260280"/>
            <a:ext cx="1871640" cy="127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0CA-0BCF-4B3F-AA14-BCDE79DE6878}" type="slidenum">
              <a:t>5</a:t>
            </a:fld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85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Гребнев Антон,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б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4464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г. Йошкар-Олы и РМЭ среди школьников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Чемпионата РМЭ среди мужчин по баскетбол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Чемпион Республики Татарстан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зёр Первенства России среди юношей 1989-1990 г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5435640" y="1700280"/>
            <a:ext cx="3197160" cy="4608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552D-0802-41C6-888B-9AD831920C42}" type="slidenum">
              <a:t>50</a:t>
            </a:fld>
          </a:p>
        </p:txBody>
      </p:sp>
    </p:spTree>
  </p:cSld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6" dur="1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7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3" dur="1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0" dur="1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1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3997440" cy="5688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859280" y="765000"/>
            <a:ext cx="3745080" cy="2427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672000" cy="275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827-C9D1-47D5-B5B8-85AE9C143F20}" type="slidenum">
              <a:t>51</a:t>
            </a:fld>
          </a:p>
        </p:txBody>
      </p:sp>
    </p:spTree>
  </p:cSld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11280" y="692280"/>
            <a:ext cx="7921440" cy="554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ультур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EC47-5A9F-4FBF-B90C-12F17483449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835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Городская олимпиад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Команда школы №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4 – 2005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4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5 – 2006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2006 – 2007 учебный год –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00"/>
                </a:solidFill>
                <a:latin typeface="Times New Roman"/>
              </a:rPr>
              <a:t>Семеро учащихся школы становились победителями и призёрами городской олимпиа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FE2-BA87-4BF9-8D38-BBD0EB53CA67}" type="slidenum">
              <a:t>53</a:t>
            </a:fld>
          </a:p>
        </p:txBody>
      </p:sp>
    </p:spTree>
  </p:cSld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6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8" fill="hold">
                      <p:stCondLst>
                        <p:cond delay="indefinite"/>
                      </p:stCondLst>
                      <p:childTnLst>
                        <p:par>
                          <p:cTn id="1679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3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4" dur="8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353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Республиканская </a:t>
            </a:r>
            <a:br>
              <a:rPr sz="6600"/>
            </a:br>
            <a:r>
              <a:rPr b="1" lang="en-US" sz="6600" spc="-1" strike="noStrike">
                <a:solidFill>
                  <a:srgbClr val="0000e6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923920"/>
            <a:ext cx="79898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Times New Roman"/>
              </a:rPr>
              <a:t>Четверо учащихся школы становились победителями и призёр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очарников Илья       –  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лгополова Мария   – 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азонов Евгений         – 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ушутина Ольга        –  2005, 2006, 2007 г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E1FE-B01A-4E0B-8FE9-985671D802D5}" type="slidenum">
              <a:t>54</a:t>
            </a:fld>
          </a:p>
        </p:txBody>
      </p:sp>
    </p:spTree>
  </p:cSld>
  <p:timing>
    <p:tnLst>
      <p:par>
        <p:cTn id="1685" dur="indefinite" restart="never" nodeType="tmRoot">
          <p:childTnLst>
            <p:seq>
              <p:cTn id="1686" dur="indefinite" nodeType="mainSeq">
                <p:childTnLst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e6"/>
                </a:solidFill>
                <a:latin typeface="Times New Roman"/>
              </a:rPr>
              <a:t>Сазонов Евгений</a:t>
            </a:r>
            <a:r>
              <a:rPr b="1" lang="en-US" sz="6000" spc="-1" strike="noStrike">
                <a:solidFill>
                  <a:srgbClr val="0000e6"/>
                </a:solidFill>
                <a:latin typeface="Times New Roman"/>
              </a:rPr>
              <a:t>, 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</a:t>
            </a:r>
            <a:r>
              <a:rPr b="1" lang="en-US" sz="4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4360" y="1503360"/>
            <a:ext cx="3235320" cy="4805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211640" y="1628640"/>
            <a:ext cx="1465200" cy="20163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4716360" y="2060640"/>
            <a:ext cx="1513080" cy="2133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5148360" y="2708280"/>
            <a:ext cx="1469880" cy="2160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1579680" cy="223200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6"/>
          <a:stretch/>
        </p:blipFill>
        <p:spPr>
          <a:xfrm>
            <a:off x="6443640" y="3789360"/>
            <a:ext cx="1598760" cy="2232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7"/>
          <a:stretch/>
        </p:blipFill>
        <p:spPr>
          <a:xfrm>
            <a:off x="7093080" y="4292640"/>
            <a:ext cx="1623960" cy="223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BCF1-61F8-4A45-B589-77197CF80DC4}" type="slidenum">
              <a:t>55</a:t>
            </a:fld>
          </a:p>
        </p:txBody>
      </p:sp>
    </p:spTree>
  </p:cSld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7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8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9" dur="4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1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7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4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fill="hold">
                      <p:stCondLst>
                        <p:cond delay="indefinite"/>
                      </p:stCondLst>
                      <p:childTnLst>
                        <p:par>
                          <p:cTn id="1752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5" dur="1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4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4" dur="1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5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4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3" dur="1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4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4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2" dur="1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3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4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40323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Душутина </a:t>
            </a:r>
            <a:br>
              <a:rPr sz="6000"/>
            </a:br>
            <a:r>
              <a:rPr b="1" i="1" lang="ru-RU" sz="6000" spc="-1" strike="noStrike">
                <a:solidFill>
                  <a:srgbClr val="0000e6"/>
                </a:solidFill>
                <a:latin typeface="Times New Roman"/>
              </a:rPr>
              <a:t>Ольга</a:t>
            </a:r>
            <a:br>
              <a:rPr sz="6000"/>
            </a:b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ff33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</a:rPr>
              <a:t>б </a:t>
            </a:r>
            <a:r>
              <a:rPr b="1" lang="ru-RU" sz="5400" spc="-1" strike="noStrike">
                <a:solidFill>
                  <a:srgbClr val="ff3300"/>
                </a:solidFill>
                <a:latin typeface="Times New Roman"/>
              </a:rPr>
              <a:t>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4427640" y="549360"/>
            <a:ext cx="4213080" cy="56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F30-70CB-4098-9424-8A1561A56648}" type="slidenum">
              <a:t>56</a:t>
            </a:fld>
          </a:p>
        </p:txBody>
      </p:sp>
    </p:spTree>
  </p:cSld>
  <p:timing>
    <p:tnLst>
      <p:par>
        <p:cTn id="1787" dur="indefinite" restart="never" nodeType="tmRoot">
          <p:childTnLst>
            <p:seq>
              <p:cTn id="1788" dur="indefinite" nodeType="mainSeq">
                <p:childTnLst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3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3708360" y="836280"/>
            <a:ext cx="49672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Неоднократная   победительница городских и республиканских олимпиад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(Кисловодск-2006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Бронзовый призёр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VIII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Всероссиийской олимпиады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ru-RU" sz="2600" spc="-1" strike="noStrike">
                <a:solidFill>
                  <a:srgbClr val="ff3300"/>
                </a:solidFill>
                <a:latin typeface="Times New Roman"/>
              </a:rPr>
              <a:t>Ульяновск – 2007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Обладательница Гранта Президента Российской Федерации В.В.Путин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11280" y="2492280"/>
            <a:ext cx="2665440" cy="3552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1116000" y="692280"/>
            <a:ext cx="1513080" cy="1390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E00B-F327-4593-902F-2CF9F03A0934}" type="slidenum">
              <a:t>57</a:t>
            </a:fld>
          </a:p>
        </p:txBody>
      </p:sp>
    </p:spTree>
  </p:cSld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6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9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1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8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1743120" cy="25210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425600" y="1557360"/>
            <a:ext cx="1728720" cy="24480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556000" y="2924280"/>
            <a:ext cx="1746000" cy="25192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3708360" y="3933720"/>
            <a:ext cx="1755720" cy="2449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4859280" y="549360"/>
            <a:ext cx="1824120" cy="251928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6"/>
          <a:stretch/>
        </p:blipFill>
        <p:spPr>
          <a:xfrm>
            <a:off x="5724360" y="1557360"/>
            <a:ext cx="1725840" cy="2448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7"/>
          <a:stretch/>
        </p:blipFill>
        <p:spPr>
          <a:xfrm>
            <a:off x="6588000" y="2852640"/>
            <a:ext cx="176868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8CF-D0F3-4FAB-B1DA-857A2F36D87D}" type="slidenum">
              <a:t>58</a:t>
            </a:fld>
          </a:p>
        </p:txBody>
      </p:sp>
    </p:spTree>
  </p:cSld>
  <p:timing>
    <p:tnLst>
      <p:par>
        <p:cTn id="1839" dur="indefinite" restart="never" nodeType="tmRoot">
          <p:childTnLst>
            <p:seq>
              <p:cTn id="1840" dur="indefinite" nodeType="mainSeq">
                <p:childTnLst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Кисловодск - 200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26920" y="2492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5364000" y="1413000"/>
            <a:ext cx="3332160" cy="482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49C4-6BC5-434A-A0B1-6E86ED4860DD}" type="slidenum">
              <a:t>59</a:t>
            </a:fld>
          </a:p>
        </p:txBody>
      </p:sp>
    </p:spTree>
  </p:cSld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0" fill="hold">
                      <p:stCondLst>
                        <p:cond delay="indefinite"/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3625920" cy="504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05640" y="2133720"/>
            <a:ext cx="202068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242-891F-4716-B5AE-81E5A0C96647}" type="slidenum">
              <a:t>6</a:t>
            </a:fld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10de"/>
                </a:solidFill>
                <a:latin typeface="Times New Roman"/>
              </a:rPr>
              <a:t>Ульяновск - 200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3216600" cy="4680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003640" y="1628640"/>
            <a:ext cx="3456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914-5798-4E84-81FD-92B654942416}" type="slidenum">
              <a:t>60</a:t>
            </a:fld>
          </a:p>
        </p:txBody>
      </p:sp>
    </p:spTree>
  </p:cSld>
  <p:timing>
    <p:tnLst>
      <p:par>
        <p:cTn id="1932" dur="indefinite" restart="never" nodeType="tmRoot">
          <p:childTnLst>
            <p:seq>
              <p:cTn id="1933" dur="indefinite" nodeType="mainSeq">
                <p:childTnLst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Грант Президента РФ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3114720" cy="4475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3780000" y="4076640"/>
            <a:ext cx="3240000" cy="243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5508720" y="1484280"/>
            <a:ext cx="3095640" cy="232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C8D-14F6-474A-B864-5665EEE78D7A}" type="slidenum">
              <a:t>61</a:t>
            </a:fld>
          </a:p>
        </p:txBody>
      </p:sp>
    </p:spTree>
  </p:cSld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ff"/>
                    </a:gs>
                    <a:gs pos="100000">
                      <a:srgbClr val="ff66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ff"/>
                  </a:gs>
                  <a:gs pos="100000">
                    <a:srgbClr val="ff66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084720" y="2205000"/>
            <a:ext cx="2737080" cy="222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A15-9831-434E-A851-83AD76126936}" type="slidenum">
              <a:t>62</a:t>
            </a:fld>
          </a:p>
        </p:txBody>
      </p:sp>
    </p:spTree>
  </p:cSld>
  <p:timing>
    <p:tnLst>
      <p:par>
        <p:cTn id="1968" dur="indefinite" restart="never" nodeType="tmRoot">
          <p:childTnLst>
            <p:seq>
              <p:cTn id="1969" dur="indefinite" nodeType="mainSeq">
                <p:childTnLst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6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064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imes New Roman"/>
              </a:rPr>
              <a:t>«Программа физического воспитания учащихся 1-11 классов, основанная на одном из видов спорта (баскетбол)»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иленский М.Я., Литвинов Е.Н., Туркунов Б.И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 РФ, 1996 го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Учебные пособи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-4 классы: Лях В.И. «Мой друг – физ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-7 классы: Виленский М.Я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-9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0-11 классы: Лях В.И. «Физическая культур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20000" y="5589720"/>
            <a:ext cx="1798560" cy="106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E3F9-6823-4650-9D26-B657E14A29F5}" type="slidenum">
              <a:t>7</a:t>
            </a:fld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Звани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439236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военно-спортивным многоборья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.11. 9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8320" y="1268280"/>
            <a:ext cx="41716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тер спорта России по полиатлон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0.12.98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2616120" cy="3662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580000" y="2852640"/>
            <a:ext cx="2589120" cy="36007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CD20-FA27-4600-9DDB-9A5368CFBB96}" type="slidenum">
              <a:t>8</a:t>
            </a:fld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d9d9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, 28.10.03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15.06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  Комитета по физической культуре и спорту Администрации г. Йошкар-Олы за большой вклад в развитие физической культуры, 27.08.04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 Министерства образования РМЭ, 05.12.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ственное письмо Министерства образования РМЭ, февраль 2007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FF47-84FC-4881-88F0-B3EDE208EE5F}" type="slidenum">
              <a:t>9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8-07T11:44:43Z</dcterms:modified>
  <cp:revision>113</cp:revision>
  <dc:subject/>
  <dc:title>Федерация интернет Образования</dc:title>
</cp:coreProperties>
</file>